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5661-D466-4F1D-AF77-EC33AB1B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D9FE-B66F-4F3F-BDCB-C48BE8F8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3E42-7730-4097-AAE1-DA186CD4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E7E6-6CEC-4792-A1E7-90671985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1605-CD4C-4232-9B6D-1159E0B8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E672-1D4F-49E2-AE44-C71DE60F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D029-F295-4C3F-BDF6-D66D50D9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84F9-6737-41BA-9FD5-9C842FAC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8D11-662D-4164-9682-518DA935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EE7C-45AA-4469-BCD5-1B73401D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5087-FC6E-492B-BBB0-9341C294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7FB-2C9F-49E3-8D3E-26EC48EC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C3DD-C679-43C0-8677-794DD4755EBD}" type="datetime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2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452760" y="6359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F7AE-1DB6-4FFF-99C5-91C5794F89ED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51424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JERRY Project Planning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&gt; Software &lt;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62960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Yang Yong Qi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 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, 28.02.200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8324-CF46-4C8A-9B50-2AE816BC25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-HW: 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oul Erik Rask</a:t>
            </a:r>
            <a:r>
              <a:rPr b="0" lang="en-US" sz="36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(Aalborg / DK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Experienced technical project leader of ODM projects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L50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T55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T60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FX65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L75 (Taiwan)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Hardware project leader of JERRY (in Aalbor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4CB7-21F7-4D19-8F44-043B35FAF9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-IM/DL: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Allan Hansen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(Aalborg / DK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a0e66"/>
                </a:solidFill>
                <a:latin typeface="Minion"/>
              </a:rPr>
              <a:t>Software and Integration Manager of Projects lik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oC for Ulysses Refresh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“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Next generation software platform”</a:t>
            </a:r>
            <a:br>
              <a:rPr sz="2400"/>
            </a:b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roject leader Integration Management and Device Layer for JERRY (working in Beijin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CC49-2B20-4B6D-943D-F3AA614219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art Project Leaders (PPL) working in Aal / DK: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lemming Kokholm (JERRY: System Test): 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Venus (ODM), S56 Marlin, Aries, Cormorant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Randi Bak (JERRY: Layout / Production Data): 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Xelibri X3, Hera, Cormora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lemming Bach Kristensen (JERRY: Digital HW): 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56, C56, Janus, Venus, Robin, Wolf 4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Arne Bisgaard Kristensen (JERRY: EMC/Ant): Hera C65, C66, C70, C71, Pegasus AX75, AX76, AX72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Michael Brammer (JERRY: RF): 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HP4000, Dual com 738, World 718, Dual com 439/939, Dual GSM 300, SP55, SX1, Hydra.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2F79-3BB2-43FC-880E-A1981203FA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 SW:    Yang Yong Qiang (Beijing, PRC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9 years in software development Mobile phones and IS-95 CDMA Basesta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Leading Java topics in Beijing R&amp;D Center, BenQ/Siemens Mobile, incl. CLDC HI, DoJa, JSR177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L SW Dorado and Libra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宋体"/>
              </a:rPr>
              <a:t>Software Project Leader of JERRY (in Beijin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4A38-9DEB-47C0-ACC1-639E93CC32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 Feature: Hu Chun Yan (Beijing, PRC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8 years in software development Mobile phon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Leading DoJa Development in Beijing R&amp;D Center, BenQ/Siemens Mobil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a0e66"/>
                </a:solidFill>
                <a:latin typeface="Minion"/>
                <a:ea typeface="宋体"/>
              </a:rPr>
              <a:t>Features Project Leader of JERRY (in Beijin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AFB7-EEC3-4888-83AF-620FF73C4C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BenQ Beijing Development Team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5 years SW development experience on average, with 2 years in BenQ/Siemens Mobil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System Architect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tefan Burkert (coach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Chen Mia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Development Team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Cui Yi (Lead)                             Lu Qi Wen (SW Arch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ong Wen Juan (SW Arch)       Yi Xiao Qiang (SE*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Zhou Tong (SE*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2 local consultant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宋体"/>
              </a:rPr>
              <a:t>-- SE* = Senior Engineer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8D9-6BF1-486D-A166-68AF9617F4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SISL PL off-shore: Rajeev Chauhan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11 years in software development and system testing for Mobile phon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UMTS NodeB OAM, transportation systems and protocol developme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a0e66"/>
                </a:solidFill>
                <a:latin typeface="Minion"/>
                <a:ea typeface="宋体"/>
              </a:rPr>
              <a:t>Leader of the UI development team in India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6727-4196-44A7-8B1B-E0062F9004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SL Development Team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More than 5 years SW development experience on averag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Rajeev Bhatia: Architect AppMsg (messagin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Sunisha Aggarwal: Architect AppBase/Avatar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Gagan Kashyap: Architect AppBase/AppIDC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25 SW Engineers (with 2 - 11 years experience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31AA-FF2C-4D20-B0C6-B244813119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Software Project going AG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825480"/>
            <a:ext cx="837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ACKLOG = list of all tasks to be performed        [Ref.:    C75-Aries / SGlite S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3880" y="1239840"/>
            <a:ext cx="8394840" cy="50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CD81-E826-4463-A2DE-4E2B518605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Software Project going AG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825480"/>
            <a:ext cx="83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ACKLOG (continued)        [Ref.:    C75-Aries / SGlite S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01760" y="1252440"/>
            <a:ext cx="8332560" cy="440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0EFC-D8EB-4301-B9E0-7DD090BF0A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CONTENT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1067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Resource Profile  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81080"/>
            <a:ext cx="8305920" cy="160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0087-5A1D-4E20-9449-62F7D75485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Software Project going AG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825480"/>
            <a:ext cx="83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ACKLOG (continued)        [Ref.:    C75-Aries / SGlite S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19040" y="1263600"/>
            <a:ext cx="8305920" cy="44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8D35-5A04-4A22-981C-54A2247E09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.1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5920" y="992160"/>
            <a:ext cx="8346960" cy="484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8CFC-DA97-4F97-A815-C3B04A3D20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.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07880" y="976320"/>
            <a:ext cx="8339400" cy="471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E100-F3B0-497D-9AC8-FFF3CE2213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.3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07880" y="958680"/>
            <a:ext cx="8348760" cy="324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58A9-4E0F-4C76-B1A0-02AD7BEB01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.4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09680" y="950760"/>
            <a:ext cx="8324640" cy="369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3016-ABE4-41C0-8E9B-5F3003BE7AF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.1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53880" y="988920"/>
            <a:ext cx="8394840" cy="520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4D38-5875-4410-B232-57EA5CB7B0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.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57120" y="984240"/>
            <a:ext cx="8393040" cy="371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B5B1-D38A-4D7A-887F-E9A76DEA338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I.1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53880" y="985680"/>
            <a:ext cx="8385480" cy="438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0929-5457-4DB5-A6A2-50F9A0FED90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I.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57120" y="988920"/>
            <a:ext cx="8391600" cy="408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F95B-4E8A-4F14-B0CA-562D3292790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I.3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53880" y="982800"/>
            <a:ext cx="8390160" cy="383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A4CA-CC01-4D9D-A1D1-3646520A044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3480" y="816120"/>
            <a:ext cx="1874880" cy="4381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PM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Koh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Kheng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Sara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anning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 SW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Yang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Y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06560" y="5075280"/>
            <a:ext cx="2475000" cy="5540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PM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Zhang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88600" y="148284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: 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0440" y="1463760"/>
            <a:ext cx="224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alborg:  HW 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3520" y="1268280"/>
            <a:ext cx="1829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 / Shangha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4DC0-B146-48FC-865E-9AEC5AB2AF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V.1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7120" y="981000"/>
            <a:ext cx="8396280" cy="36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7AC1-7CCE-479A-B3D6-F2D5C04049B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V.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53880" y="976320"/>
            <a:ext cx="8404200" cy="3913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454040" y="5175360"/>
            <a:ext cx="6112080" cy="82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D280-FA74-449A-A2D2-31881473DD9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2" name=""/>
          <p:cNvSpPr/>
          <p:nvPr/>
        </p:nvSpPr>
        <p:spPr>
          <a:xfrm>
            <a:off x="3875760" y="133344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Agreed Product Backlog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3 M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0440" y="404964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73240" y="512928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07760" y="579744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63400" y="77148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 Milestones (Ag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6840" y="1752480"/>
            <a:ext cx="56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1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3 A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41240" y="2068560"/>
            <a:ext cx="38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7 A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14240" y="2570040"/>
            <a:ext cx="57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2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4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28640" y="2886120"/>
            <a:ext cx="38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1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6840" y="3351240"/>
            <a:ext cx="55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3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5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1240" y="3666960"/>
            <a:ext cx="37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9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34760" y="4465800"/>
            <a:ext cx="55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4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91960" y="4781520"/>
            <a:ext cx="45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25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34760" y="5467320"/>
            <a:ext cx="38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3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28 Ju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3A0A-AFCB-40CF-9AC6-D89003D226D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Vodafone Approval plan (SGL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1348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210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216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10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4092-37B4-4EB6-92DF-61CEBABBA61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5" name=""/>
          <p:cNvSpPr/>
          <p:nvPr/>
        </p:nvSpPr>
        <p:spPr>
          <a:xfrm>
            <a:off x="4205880" y="174636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=      Design Freez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30440" y="295416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03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4400" y="325116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07760" y="460368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75760" y="557208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hipment to Opcos by: 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3 Oc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03000" y="77148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ED78-26C3-4AFD-9E69-D981C8D584B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9572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Project Pla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6134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804960"/>
            <a:ext cx="847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36332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78440" y="763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52160" y="7635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86360" y="76356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51800" y="7635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46320" y="76356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4596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513920" y="76356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8476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4600" y="1033560"/>
            <a:ext cx="84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3720" y="792000"/>
            <a:ext cx="0" cy="5315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175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7360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6244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5164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4048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31120" y="7905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2176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8120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83720" y="1096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8420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84280" y="11095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569640" y="1096920"/>
            <a:ext cx="3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13600" y="1096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19240" y="10969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3/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7364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067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9556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8476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95480" y="1650960"/>
            <a:ext cx="1587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11520" y="1650960"/>
            <a:ext cx="1158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08520" y="1650960"/>
            <a:ext cx="12636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99120" y="1650960"/>
            <a:ext cx="1320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91400" y="1650960"/>
            <a:ext cx="930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mp-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9558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2096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5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72088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1213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0865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6651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2039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686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85760" y="1484280"/>
            <a:ext cx="0" cy="467856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27320" y="14716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8604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5120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3872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203880" y="14590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16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342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82964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29320" y="1695600"/>
            <a:ext cx="2635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ilot R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76400" y="2212920"/>
            <a:ext cx="7398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e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35280" y="2212920"/>
            <a:ext cx="9777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32120" y="2212920"/>
            <a:ext cx="9399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ard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440" y="2212920"/>
            <a:ext cx="13111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43680" y="2212920"/>
            <a:ext cx="13395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8260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0168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3048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5136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14560" y="3252960"/>
            <a:ext cx="95868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c simu set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-up / power on dialo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hone spaces, colour schemes, icons, fo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and feel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and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 or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049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/ power on dialog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.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lume Side, Ringer Side &amp; and lock k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ync. incl. remote sy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481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s full fun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&amp; Feel – full compli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itions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14720" y="3252960"/>
            <a:ext cx="93996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nterruption by ev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leep mode with timer 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Text messages (S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hover functionality in Contact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2714760"/>
            <a:ext cx="8077320" cy="936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480" y="1690560"/>
            <a:ext cx="101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60640" y="5856120"/>
            <a:ext cx="647640" cy="455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Sprin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Approv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45200" y="5816520"/>
            <a:ext cx="1316160" cy="39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Global SW 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7043760" y="559044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280" y="2246400"/>
            <a:ext cx="1064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800" y="2854440"/>
            <a:ext cx="925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02040" y="5848200"/>
            <a:ext cx="647640" cy="455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Sprin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Approv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98800" y="5856120"/>
            <a:ext cx="647640" cy="455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Sprint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Approv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64240" y="5324400"/>
            <a:ext cx="1658880" cy="260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Sprint 4</a:t>
            </a: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 Approval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42000" y="5324400"/>
            <a:ext cx="771480" cy="347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38ED-592F-479C-8E2E-E379793A13B8}" type="slidenum">
              <a:t>35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38040" y="603360"/>
            <a:ext cx="8229600" cy="601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61F3-E433-455E-A531-C3EE7CC020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B33D-4655-4BBC-97CE-B8B74AF07D0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Integration Management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9280" y="1052640"/>
          <a:ext cx="4076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4076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924360" y="3573360"/>
          <a:ext cx="4437000" cy="297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44370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BCED-258B-4E33-B564-6E21AC92417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Meaning of Acronym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3722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Organizational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QA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  = Quality Assuranc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HW   = Hardwar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MD    = Mechanical Desig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ST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  = System Tes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LCM  = Lifecycle Managemen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NPI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  = New Products Introduc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4" name=""/>
          <p:cNvSpPr/>
          <p:nvPr/>
        </p:nvSpPr>
        <p:spPr>
          <a:xfrm>
            <a:off x="4772160" y="990720"/>
            <a:ext cx="40100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Project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PM = Category Product Mana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L-T = Technical Project L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PM = Technical Product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BA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Business Admini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373560"/>
            <a:ext cx="4010040" cy="26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Technical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A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Cor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IM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Integration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BM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Build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M  = Configuration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IT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Core Integration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DB = Component Dat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IDB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Integration Dat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588A-FA3B-45C4-826E-E25D47FA04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-T:          Lars Bonde (Aalborg / Denmark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Experienced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leader of ODM projects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Xelebri GPRS module (developed in France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Xelibri X8 (Developed in FIN / DK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Luna (Developed in Taiwan)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Mars CC75 (Developed in Finland)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Technical Project Leader of JERRY in Aalborg - responsible for all work-packages assigned to Aalborg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81AF-1EAA-4AC5-96C5-435D3ABB99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-MD: 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hristian P. Nielsen (Aalborg / DK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Experienced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leader of mechanical projects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Dual 909, Dual 909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Xelibri X3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Hera Nop1, 2 and 3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ormorant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echanical project leader of JERRY (in Aalbor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17C8-2042-4B1E-875A-566F9DCF5B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/>
  <dc:description/>
  <dc:language>en-US</dc:language>
  <cp:lastModifiedBy/>
  <dcterms:modified xsi:type="dcterms:W3CDTF">2006-02-28T12:12:17Z</dcterms:modified>
  <cp:revision>239</cp:revision>
  <dc:subject/>
  <dc:title>PowerPoint</dc:title>
</cp:coreProperties>
</file>